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ECC8-45DC-4AF2-8E87-49A5E1CE4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5468-38BB-4E83-9F38-2B84BD18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5DB4D3C-1A5E-4FD8-A16E-9C2B6B9E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733C6AA-4028-4510-B9F5-9A3CF6679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376E19-3A0D-44AF-AEF8-B49E92042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FECF2C-D5F6-4FAA-9D1C-D780B71C6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38179C-E751-41D3-8B57-5DD62535C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A302413-A62C-4A85-8E9B-1E5AC23AD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62DD68-FAD3-442F-ADC0-234D24999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DAAC737-3412-4EFE-A88A-6BCBC9DDD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1172B50-2650-43CE-8186-8677DF12E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6A7F4E5-DD65-47DB-BE80-D5B61A43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A2ED-EF3F-4324-99DD-C50484144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0708EB2-6B7C-47DA-AC2B-7959DE3D8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EAB3BA4-6182-452C-A943-5EDC6F6C5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EC9D01E-29E0-4F3C-B591-52924E4AB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B4C05AD-F488-42C4-B256-F74546FB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D8BE7D-3935-4DB4-9003-13AC43B0C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B360606-AF50-473A-9505-366883DF1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0EC93B4-0985-4C85-8E41-BCDCBFA6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A6A760-F505-439B-A3FF-8050D2A54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642274-E65C-42E8-8D0C-DB062BE31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45C9DC-96D7-4BE3-A314-FFF3B2CA8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AA17-ECE5-45E6-B909-813118970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D32159F-CDAF-480D-ACE7-41C549B6E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3E141D-7CDB-4A87-9B32-2FE6622DA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7C6F87-CD15-41D4-B9FA-89C5ED05B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FEE711-E20E-4305-88E5-6159A8A4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588573-157C-4B52-9419-73F5BA110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A82DAA-FF36-4039-8C24-7056BF1B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48762-D1CF-4E11-BBCF-996A2CFED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3D53DF-C68A-4C39-B0CC-4BBBDBBC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DB57E-8F71-4D4C-BA11-5417BAA40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582124-CD9A-4114-9E9E-C8E9D47DD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D8C0-48C6-449B-B392-C8F3E66B1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05095-7C56-4AE7-A186-25B814F63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B08E181-6501-4F31-8BB3-841A8CCC7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5D70ED-5A55-4B52-B679-664D446A1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855CC6A-5A1B-4C29-995F-1614C352D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199659-186B-4D70-BEA3-2FFAB18F0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AF1D6D-F9FC-48D8-903F-2F463E20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744B393-F434-4706-A59A-13FC4A551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FC990F0-5CAD-499F-9336-42A209870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AD96298-7CCD-49A2-9A2F-30DF7CB5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4860F51-11BD-4940-A61F-E4F8243B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F8505-DCFC-4430-9F9A-C44868204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AF53A69-6083-4CF1-9026-B216078D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74CA0B-CBC0-4606-801B-3C0F08705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22CAD74-4594-41BA-858B-8CACE9789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38AFE0-0545-4C5B-AE1D-B60F9BA78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F58F2B-EDD4-43DE-9E72-5A448D487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8D00-210B-4188-A494-0A1148C90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CC0DC-1FB5-4F7F-B1D3-2C656E9D0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99F8E-8CC3-4AF6-BFB0-CB2E1926A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DFA67-461C-4615-85AC-193AB91D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826FB-9ECA-440E-BF04-B68C5537D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2A9E-1BCB-4A3C-9203-3DB70716D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4C53-2146-4018-B2D1-832980C20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D3F7-6DA8-46D5-A0C7-2B1E2E6FB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5EFED-B059-443C-BF06-594091370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544E-A902-49D0-8950-E1F3D633D3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53E9-8F8F-4500-856D-17EC181B4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82BF7-E386-4D02-9656-E3B491D7C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42080C-4F47-4977-A46C-3D1C566E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52590-F2D8-48AB-B6F3-74FEFE268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741A6A-C425-45CC-AE6C-28ACA4E5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8F1F89-B09F-416D-A475-62AE470C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5B78-CE39-4CF2-B036-7D83F195C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62F848-34BD-454A-BE0C-A5545B67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D699A-EE95-4905-A658-3FED673B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971C-759C-490C-8396-A2AC179FD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0F33-8D89-4397-B08E-2E46DAFA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C33564-35EB-4B4F-B6C0-24101B327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2A3FE-D572-4CD2-9101-3E58319F9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65FA9-20DD-4C65-A9BB-F2D10CCF7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5B9CD-CF62-4240-A325-E6B407DCA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E13BD0-2CC5-4520-ADD1-AB0DB1EE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DECB82-E2CF-40D6-9ED3-3E4FC370C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5E8A-111C-4466-93FB-8382A0D64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E0AC57-8CB0-4FE5-9F5F-9DDB1BE5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6CDB2-DAE5-44EB-9BC7-172B99E94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E1FFEC-9930-4AE1-A73B-E5BEB33E6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6479AD-9691-4CA2-8104-664E221F4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A70EA5-9209-429D-8885-FCD6FD04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3F661D-AB43-47C4-87CF-9614B55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5A50C0-8214-4ABE-8827-54CB6D16B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824E02-52F6-460D-92F7-D08B8497C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E36A-909C-4656-A196-C53E20BED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08DD7-E8AB-4EE2-977A-39AB9FC57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6E2F-BEAC-4ACA-BD1F-EEF3BFEC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488214-60B5-4A33-AC87-60007FA5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AB4601-D84E-470A-88F1-360F5A9B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62DF1B-BC5F-44F9-BBD4-F678CCB7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47FE37-89C2-414B-9180-09068BBA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FE5C9-4032-4EAC-AD64-AADA17B34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EA9FF-4483-4F3A-81AF-7AD37260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80983-F5C8-4FDE-A8B5-BA7FD0715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62529A-4421-4DCE-BD73-0420D0D1D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D8EC5-1D2C-4A65-8594-1513D904B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247B18-8962-43C2-894C-2A7A1728F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551-83F4-442D-A2AB-F9BA3450D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F07A5-186D-4E5E-A5E3-5B922DE77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C56B3-C113-41BB-8985-3614AD95C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485D1-F4DE-47A5-A83D-839D220B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ED53F-1579-454E-8F98-6254DF4E9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9ED400-09C4-4450-A612-19F95C62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51DEFB-CE14-4CA4-ADDF-B96A416DA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8AB96E-FB74-4FB7-8871-522C00108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D80E88-90C1-4C9C-8709-B5751EC25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7871F-8E29-47F5-8792-45710588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DF9E6-5432-489E-9898-60E9D846C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258-8F32-4B37-9C45-55BD0E2A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EF292-8F70-4E0C-8591-FF939644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138F7-AC0B-471A-8727-90EABFC78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9DF81A-38A0-4BE4-B3BF-A58BD55B6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A534F9-11C6-42B7-841B-705A0203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BA4548-65F9-45D2-AE96-F4A0C145A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C26F00-8B72-40FF-BB7B-AFF8D1FA2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B312A2-3130-4566-B7B7-1D1F6785E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5E8661-57C9-4EFB-B4B7-4F3629C4D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D90AB4-F92B-4842-9CFE-709AC49C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4FABD7-DD57-4EF7-9CC9-59D564E2E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546-FE1C-4C3F-91C4-70BFCC83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CB8F29-68D6-4DB5-BAA9-250C7F9D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C24D0-286D-4C5C-BD62-CADE3D46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31B52D-F02B-4504-ADFE-EBDFA5DF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B6A37-B976-4FFF-98AC-FEA221E08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6E497A-A5FE-48FE-9BBD-FA5C20C87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C6B4E-02E2-4443-8B1E-148F9ABE0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AD217C-67F5-45E3-992B-39EB73A4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B151DD-8CEA-4D51-B256-CF5A200C3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74C26-C0AF-45E6-99FA-08ECEDFF7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0C5C0A-EDC2-43CB-806B-4E95DF8D1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94D4-4E69-4906-BC3E-424F590F9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E4BE5-0DEB-475B-91A5-DA88D8E28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42AC42-B0C1-4CF1-9240-9534162C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515A8-8FBA-46FC-A80D-58AD59E8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62CCC-2D84-4C85-98AE-8177A715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7DAEB5-7151-4AE4-9FA8-1D616E0E8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F053B-73CE-4986-8D3B-786DE0312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2F9A2E-AC48-4E23-AF46-F53F36168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31E71B-6348-4558-9D37-6CCD8B2E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F393DB-A712-405B-BD23-39F97872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F8C402-1018-429F-AA39-428BD467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1E1F7-E1A5-4A1B-81E7-D6695387DE0F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2978-BB42-4CB6-ACC5-0E209DBFFF7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C78D9-D7B5-4629-8036-CC87A8AAEF0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710F8-4E17-4D3B-A511-5DB3B3A7F2C5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41804-B20C-406D-AE1F-0C710692CB5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0D67D-ABE5-498E-92E7-090961C3FF7E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69ED5-B89E-4A4A-98B5-4802EAACC34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FAA8B-14D0-4359-AD2F-F5280C10AFE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0FB5-BC2C-42B8-A5C2-F274C5B11E24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6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A7788-0AE8-416F-9DA2-EE8D5A2EA4E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6CE36-1897-4EEF-8157-949CFEB889F6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A4B6E-18BD-47B3-A48C-6C1E04F6CE33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9.wmf"/><Relationship Id="rId12" Type="http://schemas.openxmlformats.org/officeDocument/2006/relationships/oleObject" Target="../embeddings/oleObject5.bin"/><Relationship Id="rId13" Type="http://schemas.openxmlformats.org/officeDocument/2006/relationships/image" Target="../media/image10.wmf"/><Relationship Id="rId14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684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17"/>
          <p:cNvSpPr/>
          <p:nvPr/>
        </p:nvSpPr>
        <p:spPr>
          <a:xfrm>
            <a:off x="905400" y="326880"/>
            <a:ext cx="345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3-1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 </a:t>
            </a:r>
            <a:r>
              <a:rPr b="0" lang="ko-KR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암모니아성 질소 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(NH</a:t>
            </a:r>
            <a:r>
              <a:rPr b="0" lang="en-US" sz="2400" spc="-1" strike="noStrike" baseline="-25000">
                <a:solidFill>
                  <a:srgbClr val="006666"/>
                </a:solidFill>
                <a:latin typeface="HY헤드라인M"/>
                <a:ea typeface="HY헤드라인M"/>
              </a:rPr>
              <a:t>4</a:t>
            </a:r>
            <a:r>
              <a:rPr b="0" lang="en-US" sz="2400" spc="-1" strike="noStrike" baseline="30000">
                <a:solidFill>
                  <a:srgbClr val="006666"/>
                </a:solidFill>
                <a:latin typeface="HY헤드라인M"/>
                <a:ea typeface="HY헤드라인M"/>
              </a:rPr>
              <a:t>+</a:t>
            </a:r>
            <a:r>
              <a:rPr b="0" lang="en-US" sz="2400" spc="-1" strike="noStrike">
                <a:solidFill>
                  <a:srgbClr val="006666"/>
                </a:solidFill>
                <a:latin typeface="HY헤드라인M"/>
                <a:ea typeface="HY헤드라인M"/>
              </a:rPr>
              <a:t>-N)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8"/>
          <p:cNvSpPr/>
          <p:nvPr/>
        </p:nvSpPr>
        <p:spPr>
          <a:xfrm>
            <a:off x="809640" y="15210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광도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인도페놀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4" name="Text Box 25"/>
          <p:cNvSpPr/>
          <p:nvPr/>
        </p:nvSpPr>
        <p:spPr>
          <a:xfrm>
            <a:off x="809640" y="312120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의 전처리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29"/>
          <p:cNvSpPr/>
          <p:nvPr/>
        </p:nvSpPr>
        <p:spPr>
          <a:xfrm>
            <a:off x="1116000" y="1989000"/>
            <a:ext cx="759924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HY견고딕"/>
                <a:ea typeface="HY견고딕"/>
              </a:rPr>
              <a:t>측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정원리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: NH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차아염소산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NaOC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공존 아래 페놀과 반응하여 생성하는 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인도페놀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(indophenol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청색을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630nm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서 측정하는 방법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31"/>
          <p:cNvSpPr/>
          <p:nvPr/>
        </p:nvSpPr>
        <p:spPr>
          <a:xfrm>
            <a:off x="1116000" y="3600360"/>
            <a:ext cx="7742160" cy="25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되어 있는 경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단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+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으로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3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함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취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NaOH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4W/V%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+35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용하여 중화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에 옮겨 담은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마그네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3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 비등석 수 개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플라스크 내 액량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의 메스실린더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5N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용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장치 조립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Text Box 31"/>
          <p:cNvSpPr/>
          <p:nvPr/>
        </p:nvSpPr>
        <p:spPr>
          <a:xfrm>
            <a:off x="571680" y="428760"/>
            <a:ext cx="5929200" cy="17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~7mL/min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유출속도로 증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수기의 액량이 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5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되면 증류 중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분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 내부를 소량의 물로 세척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최종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88" name="그림 8" descr="NH4증류장치.jpg"/>
          <p:cNvPicPr/>
          <p:nvPr/>
        </p:nvPicPr>
        <p:blipFill>
          <a:blip r:embed="rId1"/>
          <a:srcRect l="0" t="0" r="48103" b="0"/>
          <a:stretch/>
        </p:blipFill>
        <p:spPr>
          <a:xfrm>
            <a:off x="4357800" y="1285920"/>
            <a:ext cx="2928960" cy="5100480"/>
          </a:xfrm>
          <a:prstGeom prst="rect">
            <a:avLst/>
          </a:prstGeom>
          <a:ln w="0">
            <a:noFill/>
          </a:ln>
        </p:spPr>
      </p:pic>
      <p:sp>
        <p:nvSpPr>
          <p:cNvPr id="789" name="직사각형 9"/>
          <p:cNvSpPr/>
          <p:nvPr/>
        </p:nvSpPr>
        <p:spPr>
          <a:xfrm>
            <a:off x="2305080" y="5500800"/>
            <a:ext cx="2928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[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그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증류장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수질오염공정시험방법주해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최규철 외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동화기술</a:t>
            </a:r>
            <a:r>
              <a:rPr b="1" lang="en-US" sz="14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0" name="그림 10" descr="NH4증류장치.jpg"/>
          <p:cNvPicPr/>
          <p:nvPr/>
        </p:nvPicPr>
        <p:blipFill>
          <a:blip r:embed="rId2"/>
          <a:srcRect l="65825" t="26616" r="3795" b="18759"/>
          <a:stretch/>
        </p:blipFill>
        <p:spPr>
          <a:xfrm>
            <a:off x="7143840" y="3500280"/>
            <a:ext cx="1714320" cy="27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Text Box 16"/>
          <p:cNvSpPr/>
          <p:nvPr/>
        </p:nvSpPr>
        <p:spPr>
          <a:xfrm>
            <a:off x="1730520" y="1009800"/>
            <a:ext cx="4629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나트륨 페놀라이트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phenolate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페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산화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5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녹이고 방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아세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와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춘다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2" name="Text Box 18"/>
          <p:cNvSpPr/>
          <p:nvPr/>
        </p:nvSpPr>
        <p:spPr>
          <a:xfrm>
            <a:off x="1325880" y="2300400"/>
            <a:ext cx="663948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니트로프루싯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·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이수화물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Nitro Prusside, Na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Fe(CN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O)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2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O) 0.15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을 물에 녹여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냉소에 보관시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개월간은 안정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20"/>
          <p:cNvSpPr/>
          <p:nvPr/>
        </p:nvSpPr>
        <p:spPr>
          <a:xfrm>
            <a:off x="650880" y="642960"/>
            <a:ext cx="11314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2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시약제조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4" name="Picture 16" descr="C:\Documents and Settings\최영균\Local Settings\Temporary Internet Files\Content.IE5\7IPQV7SL\MCj03537060000[1].wmf"/>
          <p:cNvPicPr/>
          <p:nvPr/>
        </p:nvPicPr>
        <p:blipFill>
          <a:blip r:embed="rId1"/>
          <a:stretch/>
        </p:blipFill>
        <p:spPr>
          <a:xfrm>
            <a:off x="7184880" y="4214880"/>
            <a:ext cx="1435320" cy="18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Text Box 18"/>
          <p:cNvSpPr/>
          <p:nvPr/>
        </p:nvSpPr>
        <p:spPr>
          <a:xfrm>
            <a:off x="1845360" y="428760"/>
            <a:ext cx="6024960" cy="12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아염소산나트륨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odium hypochlorite, NaOC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NaOC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5~12%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유효염소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g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 해당하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L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수를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취하여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한다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. (</a:t>
            </a:r>
            <a:r>
              <a:rPr b="1" lang="ko-KR" sz="1600" spc="-1" strike="noStrike">
                <a:solidFill>
                  <a:srgbClr val="ff9900"/>
                </a:solidFill>
                <a:latin typeface="HY그래픽M"/>
                <a:ea typeface="HY그래픽M"/>
              </a:rPr>
              <a:t>사용시 조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6" name="직사각형 6"/>
          <p:cNvSpPr/>
          <p:nvPr/>
        </p:nvSpPr>
        <p:spPr>
          <a:xfrm>
            <a:off x="1763280" y="1876320"/>
            <a:ext cx="6111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※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예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시판되는 차아염소산나트륨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의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NaOCl 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농도가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%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경우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NaOCl 10g/100mL) X (Cl 35.45g/NaOCl 74.45g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4.76g/10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≒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 1g/21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라서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,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%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차염 용액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1mL +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로 하면 유효염소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1g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5%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차염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액일 경우는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42mL +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97" name="Picture 2" descr="C:\Documents and Settings\최영균\Local Settings\Temporary Internet Files\Content.IE5\FL4EAM4O\MPj03905190000[1].jpg"/>
          <p:cNvPicPr/>
          <p:nvPr/>
        </p:nvPicPr>
        <p:blipFill>
          <a:blip r:embed="rId1"/>
          <a:stretch/>
        </p:blipFill>
        <p:spPr>
          <a:xfrm>
            <a:off x="536400" y="4029120"/>
            <a:ext cx="153684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Text Box 18"/>
          <p:cNvSpPr/>
          <p:nvPr/>
        </p:nvSpPr>
        <p:spPr>
          <a:xfrm>
            <a:off x="1478160" y="428760"/>
            <a:ext cx="4788720" cy="16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ock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1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100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염화암모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Ammonium Chloride,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Cl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0.3819g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1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용해하여 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9" name="Text Box 18"/>
          <p:cNvSpPr/>
          <p:nvPr/>
        </p:nvSpPr>
        <p:spPr>
          <a:xfrm>
            <a:off x="1404000" y="1978200"/>
            <a:ext cx="5037120" cy="16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Standard Ammonium Solution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en-US" sz="1600" spc="-1" strike="noStrike">
                <a:solidFill>
                  <a:srgbClr val="0070c0"/>
                </a:solidFill>
                <a:latin typeface="HY그래픽M"/>
                <a:ea typeface="HY그래픽M"/>
              </a:rPr>
              <a:t>0.005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mL (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M"/>
                <a:ea typeface="HY그래픽M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N/L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 표준원액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     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25mL </a:t>
            </a:r>
            <a:r>
              <a:rPr b="1" lang="en-US" sz="16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500mL-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물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</a:t>
            </a:r>
            <a:r>
              <a:rPr b="1" lang="ko-KR" sz="1600" spc="-1" strike="noStrike">
                <a:solidFill>
                  <a:srgbClr val="ff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맞출 것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8"/>
          <p:cNvSpPr/>
          <p:nvPr/>
        </p:nvSpPr>
        <p:spPr>
          <a:xfrm>
            <a:off x="660960" y="642960"/>
            <a:ext cx="1197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3. </a:t>
            </a:r>
            <a:r>
              <a:rPr b="0" lang="ko-KR" sz="2000" spc="-1" strike="noStrike">
                <a:solidFill>
                  <a:srgbClr val="712d1c"/>
                </a:solidFill>
                <a:latin typeface="HY헤드라인M"/>
                <a:ea typeface="HY헤드라인M"/>
              </a:rPr>
              <a:t>실험 과정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1" name="Text Box 13"/>
          <p:cNvSpPr/>
          <p:nvPr/>
        </p:nvSpPr>
        <p:spPr>
          <a:xfrm>
            <a:off x="971640" y="1225440"/>
            <a:ext cx="7129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처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가 탁하거나 착색물질 등의 방해물질이 함유된 경우 실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략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2" name="Text Box 14"/>
          <p:cNvSpPr/>
          <p:nvPr/>
        </p:nvSpPr>
        <p:spPr>
          <a:xfrm>
            <a:off x="971640" y="2643120"/>
            <a:ext cx="752940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처리 또는 여과한 시료 적당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로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04m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하 함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5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량플라스크에 넣고 물을 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춘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03" name="Picture 16" descr="C:\Documents and Settings\최영균\Local Settings\Temporary Internet Files\Content.IE5\X836LVP2\MCj03713160000[1].wmf"/>
          <p:cNvPicPr/>
          <p:nvPr/>
        </p:nvPicPr>
        <p:blipFill>
          <a:blip r:embed="rId1"/>
          <a:stretch/>
        </p:blipFill>
        <p:spPr>
          <a:xfrm>
            <a:off x="7286760" y="4572000"/>
            <a:ext cx="1400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그림 12" descr="benzene.png"/>
          <p:cNvPicPr/>
          <p:nvPr/>
        </p:nvPicPr>
        <p:blipFill>
          <a:blip r:embed="rId1"/>
          <a:srcRect l="32793" t="25051" r="50860" b="25051"/>
          <a:stretch/>
        </p:blipFill>
        <p:spPr>
          <a:xfrm flipH="1" rot="8940600">
            <a:off x="5443200" y="499824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5" name="그림 10" descr="benzene.png"/>
          <p:cNvPicPr/>
          <p:nvPr/>
        </p:nvPicPr>
        <p:blipFill>
          <a:blip r:embed="rId2"/>
          <a:srcRect l="32793" t="25051" r="50860" b="25051"/>
          <a:stretch/>
        </p:blipFill>
        <p:spPr>
          <a:xfrm flipH="1" rot="8940600">
            <a:off x="4338360" y="5009400"/>
            <a:ext cx="571320" cy="572040"/>
          </a:xfrm>
          <a:prstGeom prst="rect">
            <a:avLst/>
          </a:prstGeom>
          <a:ln w="0">
            <a:noFill/>
          </a:ln>
        </p:spPr>
      </p:pic>
      <p:pic>
        <p:nvPicPr>
          <p:cNvPr id="806" name="그림 8" descr="benzene.png"/>
          <p:cNvPicPr/>
          <p:nvPr/>
        </p:nvPicPr>
        <p:blipFill>
          <a:blip r:embed="rId3"/>
          <a:srcRect l="32793" t="25051" r="50860" b="25051"/>
          <a:stretch/>
        </p:blipFill>
        <p:spPr>
          <a:xfrm flipH="1" rot="8939400">
            <a:off x="2437920" y="5013000"/>
            <a:ext cx="571680" cy="57132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14"/>
          <p:cNvSpPr/>
          <p:nvPr/>
        </p:nvSpPr>
        <p:spPr>
          <a:xfrm>
            <a:off x="971640" y="714240"/>
            <a:ext cx="7529400" cy="28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색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트륨 페놀라이트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와 니트로프루싯나트륨 용액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</a:t>
            </a:r>
            <a:r>
              <a:rPr b="1" lang="ko-KR" sz="1600" spc="-1" strike="noStrike">
                <a:solidFill>
                  <a:srgbClr val="ff0000"/>
                </a:solidFill>
                <a:latin typeface="맑은 고딕"/>
                <a:ea typeface="맑은 고딕"/>
              </a:rPr>
              <a:t>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격하게 교반할 경우 발생하는 문제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??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차아염소산나트륨 용액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암모니아성 질소 시험용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5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첨가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서서히 교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물을 넣어 표선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50mL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용량플라스크 표선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까지 채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온을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0~25℃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로 하여 </a:t>
            </a:r>
            <a:r>
              <a:rPr b="1" lang="en-US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0</a:t>
            </a:r>
            <a:r>
              <a:rPr b="1" lang="ko-KR" sz="1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간 방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8" name="Object 32"/>
          <p:cNvGraphicFramePr/>
          <p:nvPr/>
        </p:nvGraphicFramePr>
        <p:xfrm>
          <a:off x="1000080" y="4357800"/>
          <a:ext cx="3714840" cy="442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09" name="Object 3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00080" y="4357800"/>
                    <a:ext cx="3714840" cy="44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0" name="Object 33"/>
          <p:cNvGraphicFramePr/>
          <p:nvPr/>
        </p:nvGraphicFramePr>
        <p:xfrm>
          <a:off x="1000080" y="5059440"/>
          <a:ext cx="1501920" cy="4176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11" name="Object 33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000080" y="5059440"/>
                    <a:ext cx="1501920" cy="41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2" name="Object 34"/>
          <p:cNvGraphicFramePr/>
          <p:nvPr/>
        </p:nvGraphicFramePr>
        <p:xfrm>
          <a:off x="2919240" y="5079960"/>
          <a:ext cx="1576440" cy="34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13" name="Object 3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919240" y="5079960"/>
                    <a:ext cx="157644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4" name="Object 35"/>
          <p:cNvGraphicFramePr/>
          <p:nvPr/>
        </p:nvGraphicFramePr>
        <p:xfrm>
          <a:off x="4809960" y="5084640"/>
          <a:ext cx="787680" cy="3430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815" name="Object 3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9960" y="5084640"/>
                    <a:ext cx="787680" cy="34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16" name="Object 36"/>
          <p:cNvGraphicFramePr/>
          <p:nvPr/>
        </p:nvGraphicFramePr>
        <p:xfrm>
          <a:off x="5916600" y="5049720"/>
          <a:ext cx="2608200" cy="416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17" name="Object 36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916600" y="5049720"/>
                    <a:ext cx="2608200" cy="4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직사각형 14"/>
          <p:cNvSpPr/>
          <p:nvPr/>
        </p:nvSpPr>
        <p:spPr>
          <a:xfrm>
            <a:off x="1083960" y="3857760"/>
            <a:ext cx="21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※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인도페놀 형성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 </a:t>
            </a:r>
            <a:r>
              <a:rPr b="1" lang="ko-KR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메커니즘</a:t>
            </a:r>
            <a:r>
              <a:rPr b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9" name="모서리가 둥근 직사각형 15"/>
          <p:cNvSpPr/>
          <p:nvPr/>
        </p:nvSpPr>
        <p:spPr>
          <a:xfrm>
            <a:off x="2463840" y="5000760"/>
            <a:ext cx="1155600" cy="53640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모서리가 둥근 직사각형 16"/>
          <p:cNvSpPr/>
          <p:nvPr/>
        </p:nvSpPr>
        <p:spPr>
          <a:xfrm>
            <a:off x="1857240" y="4330800"/>
            <a:ext cx="714600" cy="444240"/>
          </a:xfrm>
          <a:prstGeom prst="roundRect">
            <a:avLst>
              <a:gd name="adj" fmla="val 16667"/>
            </a:avLst>
          </a:prstGeom>
          <a:noFill/>
          <a:ln w="15840">
            <a:solidFill>
              <a:srgbClr val="6189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모서리가 둥근 직사각형 17"/>
          <p:cNvSpPr/>
          <p:nvPr/>
        </p:nvSpPr>
        <p:spPr>
          <a:xfrm>
            <a:off x="3962520" y="5000760"/>
            <a:ext cx="2654280" cy="5364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ff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2" name="직사각형 18"/>
          <p:cNvSpPr/>
          <p:nvPr/>
        </p:nvSpPr>
        <p:spPr>
          <a:xfrm>
            <a:off x="4621680" y="5630760"/>
            <a:ext cx="141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6666"/>
                </a:solidFill>
                <a:latin typeface="맑은 고딕"/>
                <a:ea typeface="맑은 고딕"/>
              </a:rPr>
              <a:t>Indophenol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3" name="모서리가 둥근 직사각형 19"/>
          <p:cNvSpPr/>
          <p:nvPr/>
        </p:nvSpPr>
        <p:spPr>
          <a:xfrm>
            <a:off x="533520" y="3786120"/>
            <a:ext cx="8153280" cy="2284560"/>
          </a:xfrm>
          <a:prstGeom prst="roundRect">
            <a:avLst>
              <a:gd name="adj" fmla="val 16667"/>
            </a:avLst>
          </a:prstGeom>
          <a:noFill/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14"/>
          <p:cNvSpPr/>
          <p:nvPr/>
        </p:nvSpPr>
        <p:spPr>
          <a:xfrm>
            <a:off x="971640" y="92880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5" name="Rectangle 15"/>
          <p:cNvSpPr/>
          <p:nvPr/>
        </p:nvSpPr>
        <p:spPr>
          <a:xfrm>
            <a:off x="2409840" y="1360440"/>
            <a:ext cx="52351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발색된 시료 용액 일부를 층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흡수셀에 옮겨 검액으로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따로 물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취하여 시료의 시험방법에 따라 시험하여 바탕시험액으로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바탕시험액을 대조액으로 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630nm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에서 검액의 흡광도 측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미리 작성한 검량선으로부터 암모니아성 질소의 양을 구하여 농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(mgN/L)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출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6" name="그림 4" descr="암모니아성 질소.jpg"/>
          <p:cNvPicPr/>
          <p:nvPr/>
        </p:nvPicPr>
        <p:blipFill>
          <a:blip r:embed="rId1"/>
          <a:stretch/>
        </p:blipFill>
        <p:spPr>
          <a:xfrm>
            <a:off x="5715000" y="3643200"/>
            <a:ext cx="2563920" cy="1922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Text Box 14"/>
          <p:cNvSpPr/>
          <p:nvPr/>
        </p:nvSpPr>
        <p:spPr>
          <a:xfrm>
            <a:off x="971640" y="571680"/>
            <a:ext cx="712944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량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8" name="Rectangle 15"/>
          <p:cNvSpPr/>
          <p:nvPr/>
        </p:nvSpPr>
        <p:spPr>
          <a:xfrm>
            <a:off x="1839600" y="949320"/>
            <a:ext cx="422928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암모니아성 질소 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0.005mg 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N/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0.5~1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를 단계적으로 취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1, 2, 4, 8, 10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물을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넣어 </a:t>
            </a: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30mL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로 맞추고 시료의 시험방법에 따라 시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암모니아성 질소의 양과 흡광광도와의 관계식 작성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9" name="Picture 3" descr=""/>
          <p:cNvPicPr/>
          <p:nvPr/>
        </p:nvPicPr>
        <p:blipFill>
          <a:blip r:embed="rId1"/>
          <a:stretch/>
        </p:blipFill>
        <p:spPr>
          <a:xfrm>
            <a:off x="1571760" y="3160800"/>
            <a:ext cx="4478040" cy="2697120"/>
          </a:xfrm>
          <a:prstGeom prst="rect">
            <a:avLst/>
          </a:prstGeom>
          <a:ln w="0">
            <a:noFill/>
          </a:ln>
        </p:spPr>
      </p:pic>
      <p:pic>
        <p:nvPicPr>
          <p:cNvPr id="830" name="Picture 4" descr="C:\Documents and Settings\최영균\Local Settings\Temporary Internet Files\Content.IE5\X836LVP2\MCj03352160000[1].wmf"/>
          <p:cNvPicPr/>
          <p:nvPr/>
        </p:nvPicPr>
        <p:blipFill>
          <a:blip r:embed="rId2"/>
          <a:stretch/>
        </p:blipFill>
        <p:spPr>
          <a:xfrm>
            <a:off x="6786720" y="4357800"/>
            <a:ext cx="179856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user</cp:lastModifiedBy>
  <dcterms:modified xsi:type="dcterms:W3CDTF">2013-05-06T04:09:45Z</dcterms:modified>
  <cp:revision>300</cp:revision>
  <dc:subject/>
  <dc:title>슬라이드 1</dc:title>
</cp:coreProperties>
</file>